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WHOOSH.WAV" ContentType="audio/x-wav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000480" y="-36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BAAC-0A3C-4E8B-98AB-25DF10C0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496-0ED7-4251-9DCB-24ED46C23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192200"/>
            <a:ext cx="12002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218-2F4C-40A9-9614-56247A958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2200"/>
            <a:ext cx="12002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E29-2E4A-4F5A-9ECE-FD28983E8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192200"/>
            <a:ext cx="12002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6DB-B114-41EA-B74B-0229A50E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976-239E-4BB5-BB8D-6B93B39D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110-2581-41CA-A841-94CD3D29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3C3-E24F-48CF-A419-392C3F5F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EB0-5858-4D1D-A1FB-0E08D087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E15-3D6B-4194-A237-DCD328CC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1DC-200C-4343-B874-2A837CD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6AD-DD29-4041-9C06-A667D176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01E-7D03-4034-80AE-C213E57C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AC9-A97C-4271-9EEB-47A8AF3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DD9-2E75-40DD-A581-8C04754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FBC-A8C5-4446-9056-7C8DFE5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076-7FC1-45BC-8977-E739D6B7C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 and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1528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360" y="34286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uprktpr0[1]"/>
          <p:cNvPicPr/>
          <p:nvPr/>
        </p:nvPicPr>
        <p:blipFill>
          <a:blip r:embed="rId1"/>
          <a:stretch/>
        </p:blipFill>
        <p:spPr>
          <a:xfrm>
            <a:off x="838080" y="1905120"/>
            <a:ext cx="45673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was an Opin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ould not find that fact in a dictionary or reference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>
            <a:hlinkClick r:id="" action="ppaction://hlinkshowjump?jump=previousslide"/>
          </p:cNvPr>
          <p:cNvSpPr/>
          <p:nvPr/>
        </p:nvSpPr>
        <p:spPr>
          <a:xfrm>
            <a:off x="445680" y="587052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ry, that was a F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521640" y="609912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ntence was a F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>
            <a:hlinkClick r:id="" action="ppaction://hlinkshowjump?jump=previousslide"/>
          </p:cNvPr>
          <p:cNvSpPr/>
          <p:nvPr/>
        </p:nvSpPr>
        <p:spPr>
          <a:xfrm>
            <a:off x="407520" y="602244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Right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5280" y="2666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ntences are facts. You can prove these sentences are TRUE by using an encyclopedia, a dictionary, or your own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" action="ppaction://hlinkshowjump?jump=previousslide"/>
          </p:cNvPr>
          <p:cNvSpPr/>
          <p:nvPr/>
        </p:nvSpPr>
        <p:spPr>
          <a:xfrm>
            <a:off x="565200" y="5718240"/>
            <a:ext cx="1390680" cy="528120"/>
          </a:xfrm>
          <a:custGeom>
            <a:avLst/>
            <a:gdLst>
              <a:gd name="textAreaLeft" fmla="*/ 34200 w 1390680"/>
              <a:gd name="textAreaRight" fmla="*/ 1356480 w 13906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6854" h="21600">
                <a:moveTo>
                  <a:pt x="0" y="0"/>
                </a:moveTo>
                <a:lnTo>
                  <a:pt x="56854" y="0"/>
                </a:lnTo>
                <a:lnTo>
                  <a:pt x="56854" y="21600"/>
                </a:lnTo>
                <a:lnTo>
                  <a:pt x="0" y="21600"/>
                </a:lnTo>
                <a:close/>
              </a:path>
              <a:path fill="lightenLess" w="56854" h="21600">
                <a:moveTo>
                  <a:pt x="0" y="0"/>
                </a:moveTo>
                <a:lnTo>
                  <a:pt x="56854" y="0"/>
                </a:lnTo>
                <a:lnTo>
                  <a:pt x="55454" y="1400"/>
                </a:lnTo>
                <a:lnTo>
                  <a:pt x="1400" y="1400"/>
                </a:lnTo>
                <a:close/>
              </a:path>
              <a:path fill="darken" w="56854" h="21600">
                <a:moveTo>
                  <a:pt x="56854" y="0"/>
                </a:moveTo>
                <a:lnTo>
                  <a:pt x="56854" y="21600"/>
                </a:lnTo>
                <a:lnTo>
                  <a:pt x="55454" y="20200"/>
                </a:lnTo>
                <a:lnTo>
                  <a:pt x="55454" y="1400"/>
                </a:lnTo>
                <a:close/>
              </a:path>
              <a:path fill="darkenLess" w="56854" h="21600">
                <a:moveTo>
                  <a:pt x="5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54" y="20200"/>
                </a:lnTo>
                <a:close/>
              </a:path>
              <a:path fill="lighten" w="5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854" h="21600">
                <a:moveTo>
                  <a:pt x="21421" y="7493"/>
                </a:moveTo>
                <a:lnTo>
                  <a:pt x="24928" y="7493"/>
                </a:lnTo>
                <a:lnTo>
                  <a:pt x="24928" y="12828"/>
                </a:lnTo>
                <a:cubicBezTo>
                  <a:pt x="24928" y="13751"/>
                  <a:pt x="25729" y="14482"/>
                  <a:pt x="26765" y="14482"/>
                </a:cubicBezTo>
                <a:lnTo>
                  <a:pt x="28427" y="14482"/>
                </a:lnTo>
                <a:cubicBezTo>
                  <a:pt x="29463" y="14482"/>
                  <a:pt x="30264" y="13751"/>
                  <a:pt x="30264" y="12828"/>
                </a:cubicBezTo>
                <a:lnTo>
                  <a:pt x="30264" y="7493"/>
                </a:lnTo>
                <a:lnTo>
                  <a:pt x="28427" y="7493"/>
                </a:lnTo>
                <a:lnTo>
                  <a:pt x="31935" y="3985"/>
                </a:lnTo>
                <a:lnTo>
                  <a:pt x="35608" y="7493"/>
                </a:lnTo>
                <a:lnTo>
                  <a:pt x="33771" y="7493"/>
                </a:lnTo>
                <a:lnTo>
                  <a:pt x="33771" y="12828"/>
                </a:lnTo>
                <a:cubicBezTo>
                  <a:pt x="33771" y="15596"/>
                  <a:pt x="31195" y="18155"/>
                  <a:pt x="28427" y="18155"/>
                </a:cubicBezTo>
                <a:lnTo>
                  <a:pt x="26765" y="18155"/>
                </a:lnTo>
                <a:cubicBezTo>
                  <a:pt x="23997" y="18155"/>
                  <a:pt x="21421" y="15596"/>
                  <a:pt x="21421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ry, try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previousslide"/>
          </p:cNvPr>
          <p:cNvSpPr/>
          <p:nvPr/>
        </p:nvSpPr>
        <p:spPr>
          <a:xfrm>
            <a:off x="559800" y="6099120"/>
            <a:ext cx="1323720" cy="528120"/>
          </a:xfrm>
          <a:custGeom>
            <a:avLst/>
            <a:gdLst>
              <a:gd name="textAreaLeft" fmla="*/ 34200 w 1323720"/>
              <a:gd name="textAreaRight" fmla="*/ 1289520 w 13237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4118" h="21600">
                <a:moveTo>
                  <a:pt x="0" y="0"/>
                </a:moveTo>
                <a:lnTo>
                  <a:pt x="54118" y="0"/>
                </a:lnTo>
                <a:lnTo>
                  <a:pt x="54118" y="21600"/>
                </a:lnTo>
                <a:lnTo>
                  <a:pt x="0" y="21600"/>
                </a:lnTo>
                <a:close/>
              </a:path>
              <a:path fill="lightenLess" w="54118" h="21600">
                <a:moveTo>
                  <a:pt x="0" y="0"/>
                </a:moveTo>
                <a:lnTo>
                  <a:pt x="54118" y="0"/>
                </a:lnTo>
                <a:lnTo>
                  <a:pt x="52718" y="1400"/>
                </a:lnTo>
                <a:lnTo>
                  <a:pt x="1400" y="1400"/>
                </a:lnTo>
                <a:close/>
              </a:path>
              <a:path fill="darken" w="54118" h="21600">
                <a:moveTo>
                  <a:pt x="54118" y="0"/>
                </a:moveTo>
                <a:lnTo>
                  <a:pt x="54118" y="21600"/>
                </a:lnTo>
                <a:lnTo>
                  <a:pt x="52718" y="20200"/>
                </a:lnTo>
                <a:lnTo>
                  <a:pt x="52718" y="1400"/>
                </a:lnTo>
                <a:close/>
              </a:path>
              <a:path fill="darkenLess" w="54118" h="21600">
                <a:moveTo>
                  <a:pt x="54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18" y="20200"/>
                </a:lnTo>
                <a:close/>
              </a:path>
              <a:path fill="lighten" w="54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18" h="21600">
                <a:moveTo>
                  <a:pt x="20052" y="7493"/>
                </a:moveTo>
                <a:lnTo>
                  <a:pt x="23560" y="7493"/>
                </a:lnTo>
                <a:lnTo>
                  <a:pt x="23560" y="12828"/>
                </a:lnTo>
                <a:cubicBezTo>
                  <a:pt x="23560" y="13751"/>
                  <a:pt x="24361" y="14482"/>
                  <a:pt x="25396" y="14482"/>
                </a:cubicBezTo>
                <a:lnTo>
                  <a:pt x="27059" y="14482"/>
                </a:lnTo>
                <a:cubicBezTo>
                  <a:pt x="28095" y="14482"/>
                  <a:pt x="28895" y="13751"/>
                  <a:pt x="28895" y="12828"/>
                </a:cubicBezTo>
                <a:lnTo>
                  <a:pt x="28895" y="7493"/>
                </a:lnTo>
                <a:lnTo>
                  <a:pt x="27059" y="7493"/>
                </a:lnTo>
                <a:lnTo>
                  <a:pt x="30566" y="3985"/>
                </a:lnTo>
                <a:lnTo>
                  <a:pt x="34239" y="7493"/>
                </a:lnTo>
                <a:lnTo>
                  <a:pt x="32403" y="7493"/>
                </a:lnTo>
                <a:lnTo>
                  <a:pt x="32403" y="12828"/>
                </a:lnTo>
                <a:cubicBezTo>
                  <a:pt x="32403" y="15596"/>
                  <a:pt x="29827" y="18155"/>
                  <a:pt x="27059" y="18155"/>
                </a:cubicBezTo>
                <a:lnTo>
                  <a:pt x="25396" y="18155"/>
                </a:lnTo>
                <a:cubicBezTo>
                  <a:pt x="22629" y="18155"/>
                  <a:pt x="20052" y="15596"/>
                  <a:pt x="20052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imes it is hard to tell the difference between sentences that are facts and sentences that are fi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an be proven to be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PIN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at someone believes -it cannot be proven true or fal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838080" y="3048120"/>
            <a:ext cx="746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ing if a sentence is a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can fi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or a sentence, then it is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3733920" cy="199080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1295280" y="17524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at these senten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Rabbits are mam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George Washington was the first president of the Unite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earth orbits the s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There are books in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57200" y="4978440"/>
            <a:ext cx="60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uthor want you to believ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entences are fa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4962600" y="5641920"/>
            <a:ext cx="823680" cy="528120"/>
          </a:xfrm>
          <a:custGeom>
            <a:avLst/>
            <a:gdLst>
              <a:gd name="textAreaLeft" fmla="*/ 34200 w 823680"/>
              <a:gd name="textAreaRight" fmla="*/ 789480 w 8236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>
            <a:hlinkClick r:id="rId2" action="ppaction://hlinksldjump"/>
          </p:cNvPr>
          <p:cNvSpPr/>
          <p:nvPr/>
        </p:nvSpPr>
        <p:spPr>
          <a:xfrm>
            <a:off x="6248520" y="5654520"/>
            <a:ext cx="873000" cy="528120"/>
          </a:xfrm>
          <a:custGeom>
            <a:avLst/>
            <a:gdLst>
              <a:gd name="textAreaLeft" fmla="*/ 34200 w 873000"/>
              <a:gd name="textAreaRight" fmla="*/ 838800 w 873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35696" h="21600">
                <a:moveTo>
                  <a:pt x="0" y="0"/>
                </a:moveTo>
                <a:lnTo>
                  <a:pt x="35696" y="0"/>
                </a:lnTo>
                <a:lnTo>
                  <a:pt x="35696" y="21600"/>
                </a:lnTo>
                <a:lnTo>
                  <a:pt x="0" y="21600"/>
                </a:lnTo>
                <a:close/>
              </a:path>
              <a:path fill="lightenLess" w="35696" h="21600">
                <a:moveTo>
                  <a:pt x="0" y="0"/>
                </a:moveTo>
                <a:lnTo>
                  <a:pt x="35696" y="0"/>
                </a:lnTo>
                <a:lnTo>
                  <a:pt x="34296" y="1400"/>
                </a:lnTo>
                <a:lnTo>
                  <a:pt x="1400" y="1400"/>
                </a:lnTo>
                <a:close/>
              </a:path>
              <a:path fill="darken" w="35696" h="21600">
                <a:moveTo>
                  <a:pt x="35696" y="0"/>
                </a:moveTo>
                <a:lnTo>
                  <a:pt x="35696" y="21600"/>
                </a:lnTo>
                <a:lnTo>
                  <a:pt x="34296" y="20200"/>
                </a:lnTo>
                <a:lnTo>
                  <a:pt x="34296" y="1400"/>
                </a:lnTo>
                <a:close/>
              </a:path>
              <a:path fill="darkenLess" w="35696" h="21600">
                <a:moveTo>
                  <a:pt x="3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96" y="20200"/>
                </a:lnTo>
                <a:close/>
              </a:path>
              <a:path fill="lighten" w="3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759080" y="5702760"/>
            <a:ext cx="928800" cy="94572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45720"/>
              <a:gd name="textAreaBottom" fmla="*/ 885600 h 945720"/>
            </a:gdLst>
            <a:ahLst/>
            <a:rect l="textAreaLeft" t="textAreaTop" r="textAreaRight" b="textAreaBottom"/>
            <a:pathLst>
              <a:path w="21600" h="21993">
                <a:moveTo>
                  <a:pt x="0" y="0"/>
                </a:moveTo>
                <a:lnTo>
                  <a:pt x="21600" y="0"/>
                </a:lnTo>
                <a:lnTo>
                  <a:pt x="21600" y="21993"/>
                </a:lnTo>
                <a:lnTo>
                  <a:pt x="0" y="21993"/>
                </a:lnTo>
                <a:close/>
              </a:path>
              <a:path fill="lightenLess" w="21600" h="21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93">
                <a:moveTo>
                  <a:pt x="21600" y="0"/>
                </a:moveTo>
                <a:lnTo>
                  <a:pt x="21600" y="21993"/>
                </a:lnTo>
                <a:lnTo>
                  <a:pt x="20200" y="20593"/>
                </a:lnTo>
                <a:lnTo>
                  <a:pt x="20200" y="1400"/>
                </a:lnTo>
                <a:close/>
              </a:path>
              <a:path fill="darkenLess" w="21600" h="21993">
                <a:moveTo>
                  <a:pt x="21600" y="21993"/>
                </a:moveTo>
                <a:lnTo>
                  <a:pt x="0" y="21993"/>
                </a:lnTo>
                <a:lnTo>
                  <a:pt x="1400" y="20593"/>
                </a:lnTo>
                <a:lnTo>
                  <a:pt x="20200" y="20593"/>
                </a:lnTo>
                <a:close/>
              </a:path>
              <a:path fill="lighten" w="21600" h="21993">
                <a:moveTo>
                  <a:pt x="0" y="21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93"/>
                </a:lnTo>
                <a:close/>
              </a:path>
              <a:path fill="darken" w="21600" h="21993">
                <a:moveTo>
                  <a:pt x="3794" y="3990"/>
                </a:moveTo>
                <a:lnTo>
                  <a:pt x="17806" y="10997"/>
                </a:lnTo>
                <a:lnTo>
                  <a:pt x="3794" y="1800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bbit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mm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ould look in a dictionary or encyclopedia, and find PROOF that the sentence states a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848720" y="3436920"/>
            <a:ext cx="43052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evt="end">
                                        <p:tn val="24"/>
                                      </p:cond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ecide - 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phants have four le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057400" y="57913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>
            <a:hlinkClick r:id="rId1" action="ppaction://hlinksldjump"/>
          </p:cNvPr>
          <p:cNvSpPr/>
          <p:nvPr/>
        </p:nvSpPr>
        <p:spPr>
          <a:xfrm>
            <a:off x="2214720" y="6137280"/>
            <a:ext cx="1062000" cy="528120"/>
          </a:xfrm>
          <a:custGeom>
            <a:avLst/>
            <a:gdLst>
              <a:gd name="textAreaLeft" fmla="*/ 34200 w 1062000"/>
              <a:gd name="textAreaRight" fmla="*/ 1027800 w 1062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421" h="21600">
                <a:moveTo>
                  <a:pt x="0" y="0"/>
                </a:moveTo>
                <a:lnTo>
                  <a:pt x="43421" y="0"/>
                </a:lnTo>
                <a:lnTo>
                  <a:pt x="43421" y="21600"/>
                </a:lnTo>
                <a:lnTo>
                  <a:pt x="0" y="21600"/>
                </a:lnTo>
                <a:close/>
              </a:path>
              <a:path fill="lightenLess" w="43421" h="21600">
                <a:moveTo>
                  <a:pt x="0" y="0"/>
                </a:moveTo>
                <a:lnTo>
                  <a:pt x="43421" y="0"/>
                </a:lnTo>
                <a:lnTo>
                  <a:pt x="42021" y="1400"/>
                </a:lnTo>
                <a:lnTo>
                  <a:pt x="1400" y="1400"/>
                </a:lnTo>
                <a:close/>
              </a:path>
              <a:path fill="darken" w="43421" h="21600">
                <a:moveTo>
                  <a:pt x="43421" y="0"/>
                </a:moveTo>
                <a:lnTo>
                  <a:pt x="43421" y="21600"/>
                </a:lnTo>
                <a:lnTo>
                  <a:pt x="42021" y="20200"/>
                </a:lnTo>
                <a:lnTo>
                  <a:pt x="42021" y="1400"/>
                </a:lnTo>
                <a:close/>
              </a:path>
              <a:path fill="darkenLess" w="43421" h="21600">
                <a:moveTo>
                  <a:pt x="43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21" y="20200"/>
                </a:lnTo>
                <a:close/>
              </a:path>
              <a:path fill="lighten" w="43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104080" y="6087960"/>
            <a:ext cx="1248840" cy="528120"/>
          </a:xfrm>
          <a:custGeom>
            <a:avLst/>
            <a:gdLst>
              <a:gd name="textAreaLeft" fmla="*/ 34200 w 1248840"/>
              <a:gd name="textAreaRight" fmla="*/ 1214640 w 12488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1057" h="21600">
                <a:moveTo>
                  <a:pt x="0" y="0"/>
                </a:moveTo>
                <a:lnTo>
                  <a:pt x="51057" y="0"/>
                </a:lnTo>
                <a:lnTo>
                  <a:pt x="51057" y="21600"/>
                </a:lnTo>
                <a:lnTo>
                  <a:pt x="0" y="21600"/>
                </a:lnTo>
                <a:close/>
              </a:path>
              <a:path fill="lightenLess" w="51057" h="21600">
                <a:moveTo>
                  <a:pt x="0" y="0"/>
                </a:moveTo>
                <a:lnTo>
                  <a:pt x="51057" y="0"/>
                </a:lnTo>
                <a:lnTo>
                  <a:pt x="49657" y="1400"/>
                </a:lnTo>
                <a:lnTo>
                  <a:pt x="1400" y="1400"/>
                </a:lnTo>
                <a:close/>
              </a:path>
              <a:path fill="darken" w="51057" h="21600">
                <a:moveTo>
                  <a:pt x="51057" y="0"/>
                </a:moveTo>
                <a:lnTo>
                  <a:pt x="51057" y="21600"/>
                </a:lnTo>
                <a:lnTo>
                  <a:pt x="49657" y="20200"/>
                </a:lnTo>
                <a:lnTo>
                  <a:pt x="49657" y="1400"/>
                </a:lnTo>
                <a:close/>
              </a:path>
              <a:path fill="darkenLess" w="51057" h="21600">
                <a:moveTo>
                  <a:pt x="51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7" y="20200"/>
                </a:lnTo>
                <a:close/>
              </a:path>
              <a:path fill="lighten" w="51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9">
            <a:hlinkClick r:id="" action="ppaction://hlinkshowjump?jump=nextslide"/>
          </p:cNvPr>
          <p:cNvSpPr/>
          <p:nvPr/>
        </p:nvSpPr>
        <p:spPr>
          <a:xfrm>
            <a:off x="7844400" y="6012000"/>
            <a:ext cx="1069200" cy="528120"/>
          </a:xfrm>
          <a:custGeom>
            <a:avLst/>
            <a:gdLst>
              <a:gd name="textAreaLeft" fmla="*/ 34200 w 1069200"/>
              <a:gd name="textAreaRight" fmla="*/ 1035000 w 10692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715" h="21600">
                <a:moveTo>
                  <a:pt x="0" y="0"/>
                </a:moveTo>
                <a:lnTo>
                  <a:pt x="43715" y="0"/>
                </a:lnTo>
                <a:lnTo>
                  <a:pt x="43715" y="21600"/>
                </a:lnTo>
                <a:lnTo>
                  <a:pt x="0" y="21600"/>
                </a:lnTo>
                <a:close/>
              </a:path>
              <a:path fill="lightenLess" w="43715" h="21600">
                <a:moveTo>
                  <a:pt x="0" y="0"/>
                </a:moveTo>
                <a:lnTo>
                  <a:pt x="43715" y="0"/>
                </a:lnTo>
                <a:lnTo>
                  <a:pt x="42315" y="1400"/>
                </a:lnTo>
                <a:lnTo>
                  <a:pt x="1400" y="1400"/>
                </a:lnTo>
                <a:close/>
              </a:path>
              <a:path fill="darken" w="43715" h="21600">
                <a:moveTo>
                  <a:pt x="43715" y="0"/>
                </a:moveTo>
                <a:lnTo>
                  <a:pt x="43715" y="21600"/>
                </a:lnTo>
                <a:lnTo>
                  <a:pt x="42315" y="20200"/>
                </a:lnTo>
                <a:lnTo>
                  <a:pt x="42315" y="1400"/>
                </a:lnTo>
                <a:close/>
              </a:path>
              <a:path fill="darkenLess" w="43715" h="21600">
                <a:moveTo>
                  <a:pt x="4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15" y="20200"/>
                </a:lnTo>
                <a:close/>
              </a:path>
              <a:path fill="lighten" w="4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15" h="21600">
                <a:moveTo>
                  <a:pt x="14851" y="3794"/>
                </a:moveTo>
                <a:lnTo>
                  <a:pt x="28864" y="10800"/>
                </a:lnTo>
                <a:lnTo>
                  <a:pt x="1485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dlj1xonn[1]"/>
          <p:cNvPicPr/>
          <p:nvPr/>
        </p:nvPicPr>
        <p:blipFill>
          <a:blip r:embed="rId2"/>
          <a:stretch/>
        </p:blipFill>
        <p:spPr>
          <a:xfrm>
            <a:off x="2209680" y="2971800"/>
            <a:ext cx="2895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ecide - 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is the best color for a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2057400" y="57913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214720" y="6137280"/>
            <a:ext cx="1062000" cy="528120"/>
          </a:xfrm>
          <a:custGeom>
            <a:avLst/>
            <a:gdLst>
              <a:gd name="textAreaLeft" fmla="*/ 34200 w 1062000"/>
              <a:gd name="textAreaRight" fmla="*/ 1027800 w 1062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421" h="21600">
                <a:moveTo>
                  <a:pt x="0" y="0"/>
                </a:moveTo>
                <a:lnTo>
                  <a:pt x="43421" y="0"/>
                </a:lnTo>
                <a:lnTo>
                  <a:pt x="43421" y="21600"/>
                </a:lnTo>
                <a:lnTo>
                  <a:pt x="0" y="21600"/>
                </a:lnTo>
                <a:close/>
              </a:path>
              <a:path fill="lightenLess" w="43421" h="21600">
                <a:moveTo>
                  <a:pt x="0" y="0"/>
                </a:moveTo>
                <a:lnTo>
                  <a:pt x="43421" y="0"/>
                </a:lnTo>
                <a:lnTo>
                  <a:pt x="42021" y="1400"/>
                </a:lnTo>
                <a:lnTo>
                  <a:pt x="1400" y="1400"/>
                </a:lnTo>
                <a:close/>
              </a:path>
              <a:path fill="darken" w="43421" h="21600">
                <a:moveTo>
                  <a:pt x="43421" y="0"/>
                </a:moveTo>
                <a:lnTo>
                  <a:pt x="43421" y="21600"/>
                </a:lnTo>
                <a:lnTo>
                  <a:pt x="42021" y="20200"/>
                </a:lnTo>
                <a:lnTo>
                  <a:pt x="42021" y="1400"/>
                </a:lnTo>
                <a:close/>
              </a:path>
              <a:path fill="darkenLess" w="43421" h="21600">
                <a:moveTo>
                  <a:pt x="43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21" y="20200"/>
                </a:lnTo>
                <a:close/>
              </a:path>
              <a:path fill="lighten" w="43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5104080" y="6087960"/>
            <a:ext cx="1248840" cy="528120"/>
          </a:xfrm>
          <a:custGeom>
            <a:avLst/>
            <a:gdLst>
              <a:gd name="textAreaLeft" fmla="*/ 34200 w 1248840"/>
              <a:gd name="textAreaRight" fmla="*/ 1214640 w 12488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1057" h="21600">
                <a:moveTo>
                  <a:pt x="0" y="0"/>
                </a:moveTo>
                <a:lnTo>
                  <a:pt x="51057" y="0"/>
                </a:lnTo>
                <a:lnTo>
                  <a:pt x="51057" y="21600"/>
                </a:lnTo>
                <a:lnTo>
                  <a:pt x="0" y="21600"/>
                </a:lnTo>
                <a:close/>
              </a:path>
              <a:path fill="lightenLess" w="51057" h="21600">
                <a:moveTo>
                  <a:pt x="0" y="0"/>
                </a:moveTo>
                <a:lnTo>
                  <a:pt x="51057" y="0"/>
                </a:lnTo>
                <a:lnTo>
                  <a:pt x="49657" y="1400"/>
                </a:lnTo>
                <a:lnTo>
                  <a:pt x="1400" y="1400"/>
                </a:lnTo>
                <a:close/>
              </a:path>
              <a:path fill="darken" w="51057" h="21600">
                <a:moveTo>
                  <a:pt x="51057" y="0"/>
                </a:moveTo>
                <a:lnTo>
                  <a:pt x="51057" y="21600"/>
                </a:lnTo>
                <a:lnTo>
                  <a:pt x="49657" y="20200"/>
                </a:lnTo>
                <a:lnTo>
                  <a:pt x="49657" y="1400"/>
                </a:lnTo>
                <a:close/>
              </a:path>
              <a:path fill="darkenLess" w="51057" h="21600">
                <a:moveTo>
                  <a:pt x="51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7" y="20200"/>
                </a:lnTo>
                <a:close/>
              </a:path>
              <a:path fill="lighten" w="51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>
            <a:hlinkClick r:id="" action="ppaction://hlinkshowjump?jump=nextslide"/>
          </p:cNvPr>
          <p:cNvSpPr/>
          <p:nvPr/>
        </p:nvSpPr>
        <p:spPr>
          <a:xfrm>
            <a:off x="7844400" y="6012000"/>
            <a:ext cx="1069200" cy="528120"/>
          </a:xfrm>
          <a:custGeom>
            <a:avLst/>
            <a:gdLst>
              <a:gd name="textAreaLeft" fmla="*/ 34200 w 1069200"/>
              <a:gd name="textAreaRight" fmla="*/ 1035000 w 10692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715" h="21600">
                <a:moveTo>
                  <a:pt x="0" y="0"/>
                </a:moveTo>
                <a:lnTo>
                  <a:pt x="43715" y="0"/>
                </a:lnTo>
                <a:lnTo>
                  <a:pt x="43715" y="21600"/>
                </a:lnTo>
                <a:lnTo>
                  <a:pt x="0" y="21600"/>
                </a:lnTo>
                <a:close/>
              </a:path>
              <a:path fill="lightenLess" w="43715" h="21600">
                <a:moveTo>
                  <a:pt x="0" y="0"/>
                </a:moveTo>
                <a:lnTo>
                  <a:pt x="43715" y="0"/>
                </a:lnTo>
                <a:lnTo>
                  <a:pt x="42315" y="1400"/>
                </a:lnTo>
                <a:lnTo>
                  <a:pt x="1400" y="1400"/>
                </a:lnTo>
                <a:close/>
              </a:path>
              <a:path fill="darken" w="43715" h="21600">
                <a:moveTo>
                  <a:pt x="43715" y="0"/>
                </a:moveTo>
                <a:lnTo>
                  <a:pt x="43715" y="21600"/>
                </a:lnTo>
                <a:lnTo>
                  <a:pt x="42315" y="20200"/>
                </a:lnTo>
                <a:lnTo>
                  <a:pt x="42315" y="1400"/>
                </a:lnTo>
                <a:close/>
              </a:path>
              <a:path fill="darkenLess" w="43715" h="21600">
                <a:moveTo>
                  <a:pt x="4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15" y="20200"/>
                </a:lnTo>
                <a:close/>
              </a:path>
              <a:path fill="lighten" w="4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15" h="21600">
                <a:moveTo>
                  <a:pt x="14851" y="3794"/>
                </a:moveTo>
                <a:lnTo>
                  <a:pt x="28864" y="10800"/>
                </a:lnTo>
                <a:lnTo>
                  <a:pt x="1485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686800" y="3048120"/>
            <a:ext cx="34480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ecide - 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eople have dogs for p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2057400" y="57913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214720" y="6137280"/>
            <a:ext cx="1062000" cy="528120"/>
          </a:xfrm>
          <a:custGeom>
            <a:avLst/>
            <a:gdLst>
              <a:gd name="textAreaLeft" fmla="*/ 34200 w 1062000"/>
              <a:gd name="textAreaRight" fmla="*/ 1027800 w 1062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421" h="21600">
                <a:moveTo>
                  <a:pt x="0" y="0"/>
                </a:moveTo>
                <a:lnTo>
                  <a:pt x="43421" y="0"/>
                </a:lnTo>
                <a:lnTo>
                  <a:pt x="43421" y="21600"/>
                </a:lnTo>
                <a:lnTo>
                  <a:pt x="0" y="21600"/>
                </a:lnTo>
                <a:close/>
              </a:path>
              <a:path fill="lightenLess" w="43421" h="21600">
                <a:moveTo>
                  <a:pt x="0" y="0"/>
                </a:moveTo>
                <a:lnTo>
                  <a:pt x="43421" y="0"/>
                </a:lnTo>
                <a:lnTo>
                  <a:pt x="42021" y="1400"/>
                </a:lnTo>
                <a:lnTo>
                  <a:pt x="1400" y="1400"/>
                </a:lnTo>
                <a:close/>
              </a:path>
              <a:path fill="darken" w="43421" h="21600">
                <a:moveTo>
                  <a:pt x="43421" y="0"/>
                </a:moveTo>
                <a:lnTo>
                  <a:pt x="43421" y="21600"/>
                </a:lnTo>
                <a:lnTo>
                  <a:pt x="42021" y="20200"/>
                </a:lnTo>
                <a:lnTo>
                  <a:pt x="42021" y="1400"/>
                </a:lnTo>
                <a:close/>
              </a:path>
              <a:path fill="darkenLess" w="43421" h="21600">
                <a:moveTo>
                  <a:pt x="43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21" y="20200"/>
                </a:lnTo>
                <a:close/>
              </a:path>
              <a:path fill="lighten" w="43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5104080" y="6087960"/>
            <a:ext cx="1248840" cy="528120"/>
          </a:xfrm>
          <a:custGeom>
            <a:avLst/>
            <a:gdLst>
              <a:gd name="textAreaLeft" fmla="*/ 34200 w 1248840"/>
              <a:gd name="textAreaRight" fmla="*/ 1214640 w 12488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1057" h="21600">
                <a:moveTo>
                  <a:pt x="0" y="0"/>
                </a:moveTo>
                <a:lnTo>
                  <a:pt x="51057" y="0"/>
                </a:lnTo>
                <a:lnTo>
                  <a:pt x="51057" y="21600"/>
                </a:lnTo>
                <a:lnTo>
                  <a:pt x="0" y="21600"/>
                </a:lnTo>
                <a:close/>
              </a:path>
              <a:path fill="lightenLess" w="51057" h="21600">
                <a:moveTo>
                  <a:pt x="0" y="0"/>
                </a:moveTo>
                <a:lnTo>
                  <a:pt x="51057" y="0"/>
                </a:lnTo>
                <a:lnTo>
                  <a:pt x="49657" y="1400"/>
                </a:lnTo>
                <a:lnTo>
                  <a:pt x="1400" y="1400"/>
                </a:lnTo>
                <a:close/>
              </a:path>
              <a:path fill="darken" w="51057" h="21600">
                <a:moveTo>
                  <a:pt x="51057" y="0"/>
                </a:moveTo>
                <a:lnTo>
                  <a:pt x="51057" y="21600"/>
                </a:lnTo>
                <a:lnTo>
                  <a:pt x="49657" y="20200"/>
                </a:lnTo>
                <a:lnTo>
                  <a:pt x="49657" y="1400"/>
                </a:lnTo>
                <a:close/>
              </a:path>
              <a:path fill="darkenLess" w="51057" h="21600">
                <a:moveTo>
                  <a:pt x="51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7" y="20200"/>
                </a:lnTo>
                <a:close/>
              </a:path>
              <a:path fill="lighten" w="51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>
            <a:hlinkClick r:id="" action="ppaction://hlinkshowjump?jump=nextslide"/>
          </p:cNvPr>
          <p:cNvSpPr/>
          <p:nvPr/>
        </p:nvSpPr>
        <p:spPr>
          <a:xfrm>
            <a:off x="7844400" y="6012000"/>
            <a:ext cx="1069200" cy="528120"/>
          </a:xfrm>
          <a:custGeom>
            <a:avLst/>
            <a:gdLst>
              <a:gd name="textAreaLeft" fmla="*/ 34200 w 1069200"/>
              <a:gd name="textAreaRight" fmla="*/ 1035000 w 10692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3715" h="21600">
                <a:moveTo>
                  <a:pt x="0" y="0"/>
                </a:moveTo>
                <a:lnTo>
                  <a:pt x="43715" y="0"/>
                </a:lnTo>
                <a:lnTo>
                  <a:pt x="43715" y="21600"/>
                </a:lnTo>
                <a:lnTo>
                  <a:pt x="0" y="21600"/>
                </a:lnTo>
                <a:close/>
              </a:path>
              <a:path fill="lightenLess" w="43715" h="21600">
                <a:moveTo>
                  <a:pt x="0" y="0"/>
                </a:moveTo>
                <a:lnTo>
                  <a:pt x="43715" y="0"/>
                </a:lnTo>
                <a:lnTo>
                  <a:pt x="42315" y="1400"/>
                </a:lnTo>
                <a:lnTo>
                  <a:pt x="1400" y="1400"/>
                </a:lnTo>
                <a:close/>
              </a:path>
              <a:path fill="darken" w="43715" h="21600">
                <a:moveTo>
                  <a:pt x="43715" y="0"/>
                </a:moveTo>
                <a:lnTo>
                  <a:pt x="43715" y="21600"/>
                </a:lnTo>
                <a:lnTo>
                  <a:pt x="42315" y="20200"/>
                </a:lnTo>
                <a:lnTo>
                  <a:pt x="42315" y="1400"/>
                </a:lnTo>
                <a:close/>
              </a:path>
              <a:path fill="darkenLess" w="43715" h="21600">
                <a:moveTo>
                  <a:pt x="4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15" y="20200"/>
                </a:lnTo>
                <a:close/>
              </a:path>
              <a:path fill="lighten" w="4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15" h="21600">
                <a:moveTo>
                  <a:pt x="14851" y="3794"/>
                </a:moveTo>
                <a:lnTo>
                  <a:pt x="28864" y="10800"/>
                </a:lnTo>
                <a:lnTo>
                  <a:pt x="1485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-3200400" y="3048120"/>
          <a:ext cx="35244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0400" y="3048120"/>
                    <a:ext cx="3524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an be proven to be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PIN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at someone believes -it cannot be proven true or fal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9:14:00Z</dcterms:created>
  <dc:creator>Instructional Technology</dc:creator>
  <dc:description/>
  <dc:language>en-US</dc:language>
  <cp:lastModifiedBy>teacher</cp:lastModifiedBy>
  <dcterms:modified xsi:type="dcterms:W3CDTF">2011-01-07T22:15:11Z</dcterms:modified>
  <cp:revision>6</cp:revision>
  <dc:subject/>
  <dc:title>Fact and Opinion</dc:title>
</cp:coreProperties>
</file>